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6A0-B5A4-4A3E-A777-2E657317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842-BE41-4DD6-B2FA-372476FE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745-2E1C-4C79-8717-5C15D44E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052-65B2-4003-8159-C5627543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35C-DD84-4945-8DBB-D8102BE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2E7-967D-4BA9-A6F2-C069398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4C1-DD0F-42AE-8C4D-181F465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65E-DD4C-4148-8667-ABFBD150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DD6-190E-48DB-9EEF-1D152B32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434-8474-4564-B439-B14DA61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A02-8C52-4E62-80B9-3E22D68E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595-850A-4C7A-B807-CCF7F939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8983-8493-417E-AD41-BA2FF656C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8:29:50Z</dcterms:created>
  <dc:creator>abeason</dc:creator>
  <dc:description/>
  <dc:language>en-US</dc:language>
  <cp:lastModifiedBy>abeason</cp:lastModifiedBy>
  <dcterms:modified xsi:type="dcterms:W3CDTF">2009-01-14T18:29:54Z</dcterms:modified>
  <cp:revision>1</cp:revision>
  <dc:subject/>
  <dc:title>Slide 1</dc:title>
</cp:coreProperties>
</file>